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0F04-91CF-4DC5-B7B0-C6163338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565E-0E9E-4FBB-99F0-3076E084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2809-3C7A-4315-8DC2-10C54B1C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7D0A-6BC9-47D5-97E6-E3E88C48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9685-B8DE-4234-B5CE-85390F64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B94C-F1B9-4D6F-885F-91927E83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D762-052C-4348-9498-B4E6D6C8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6235-1025-46E7-9203-37B376BA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F37D-755F-4160-8F21-61EE5BFF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0774-7658-4D34-B6D9-018DDE86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5799-1851-46F9-894F-E813BD6B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3EE-907D-4AAE-8D1F-ECA42D46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C4BA-A624-42FA-92C9-93F74FCF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62EE-FC02-400A-AE1F-61F68BBB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A81F-766E-4CE1-AAC6-3270F973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B3F8-B637-42E3-BEA4-C3DE77C8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AB39-7C3D-4A97-8F55-674DF51F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7BA1-C27C-4C8F-A198-3AAE67DD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AAD-5DE0-4AB0-9D5B-D516DCCF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D95A-8ABF-49EE-979B-D3E8A58A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36D-4A59-4D22-B94B-01B78352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AA0-36AD-4ECD-AAB2-C655CA75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C31B-5F8E-4B96-866E-DF0886C9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A43-4941-4831-8F1A-A070DBEF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C31D-8015-4BDA-BB3F-52FBD32A3B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6870-4238-4B8D-8CA0-C23C129996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1"/>
          <p:cNvSpPr/>
          <p:nvPr/>
        </p:nvSpPr>
        <p:spPr>
          <a:xfrm>
            <a:off x="228600" y="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llringer 3/11/20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228600" y="609480"/>
            <a:ext cx="5486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nk about the documentary we watched yesterday and answer the following questions in the first 5 minutes of cla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228600" y="3886200"/>
            <a:ext cx="82296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three things that you learned by watching 30 Days:  Muslims in Amer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those three things, which one impacted you the most and wh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else would you have liked to learn through the documentary or wish you would have seen more of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7" descr="al-jabr"/>
          <p:cNvPicPr/>
          <p:nvPr/>
        </p:nvPicPr>
        <p:blipFill>
          <a:blip r:embed="rId1"/>
          <a:stretch/>
        </p:blipFill>
        <p:spPr>
          <a:xfrm>
            <a:off x="5870520" y="96840"/>
            <a:ext cx="30243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0:10:04Z</dcterms:created>
  <dc:creator>admin</dc:creator>
  <dc:description/>
  <dc:language>en-US</dc:language>
  <cp:lastModifiedBy>admin</cp:lastModifiedBy>
  <dcterms:modified xsi:type="dcterms:W3CDTF">2011-03-11T14:13:06Z</dcterms:modified>
  <cp:revision>12</cp:revision>
  <dc:subject/>
  <dc:title>Slide 1</dc:title>
</cp:coreProperties>
</file>